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15C-E0E1-4987-BE77-F56FF6DD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355-80BB-42E2-BEBB-F69425C0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E6F-3990-4C0C-A599-92875891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173-57A0-4583-B6FE-53521E90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13FB-93A7-4DE9-8F01-7CAE3B2F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B80B-4AD7-4C0C-B2FB-BAEA8FB5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4130-B2BD-490F-8446-C8249624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20C3-2AAD-498D-A202-8D52AD03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D976-C1CD-416A-8340-6C3F38BD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E561-5BC4-49D7-AC56-FCF0E798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3F50-C08F-4DA4-BD51-8D48EE7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09E-5C24-4F2B-8C75-CD5C6A80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D3E9-F298-4FE0-A9A4-357C381C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3438-4D2F-4CBB-B822-12F49B48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D638-FCC7-4FC0-A169-15D10B06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4D95-1051-48D1-A0DB-FFA19863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D1C3-F9AF-4D4A-AB34-CE86CE58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920-FCAD-43FC-8575-0ACC47C5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66E-C4A7-491D-A5E5-9CA3157B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012-0EB9-4055-BEEC-0D19C87B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386-2BB0-4A87-8252-B395EBA1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134-2879-43FB-8DC6-834C7551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EFE-08BD-423B-924E-A87C7C8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687-00C6-435A-B519-AE381BB2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3566-1C1D-4C9F-844C-ABDEA8AC1F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EB03-7F38-4700-A163-484366E1BE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ciona una entidad de SVS y revisa si el capital esta inmuniz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Ren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de Varianza – Covaria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bilidad Opt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folio Opt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7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321300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Inversionista les entrega 10.000.000 de Pesos para que lo inviertan en la Bolsa, que acciones tomaría usted para cada acción si quiere obtener la rentabilidad opti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Matemáticas Financi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sidio a la inver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sta pensando en subsidiar a los agricultores de la VI Región para que realicen una inversión de 5.000 M UF en nuevas tecnologí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estiman que los ingresos anuales crecerán a una tasa del 5% durante 15 años. El primer año esperan recaudar 400 M 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costos de operación son un 25% de los 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ntregará el subsidio en 10 cuotas iguales.  De tal forma que la utilidad sea c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l subsid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 la cuota anual que el Gobierno entregará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tasa de descuento es del 10% según MIDEPL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1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5805360"/>
            <a:ext cx="1079280" cy="719280"/>
          </a:xfrm>
          <a:prstGeom prst="rightArrow">
            <a:avLst>
              <a:gd name="adj1" fmla="val 50000"/>
              <a:gd name="adj2" fmla="val 3751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ndial 20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necesita ahorrar M$ 3.000 para ir en Julio de 2006 al Mundial de Alemania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recibe un sueldo de M$ 800 Mens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Mayo 2006 recibe M$ 960 por la devolución de Impuestos.  Los que destinará a su vi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tasa de ahorro es de 3,5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Qué Fracción de su sueldo necesita ahorrar mensualm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2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ula quiere invertir en su Depto. las alternativas que le ofrecen distintos bancos son la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 Cual es la mejor alternativ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3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566100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58920" y="2852640"/>
          <a:ext cx="6622920" cy="2214720"/>
        </p:xfrm>
        <a:graphic>
          <a:graphicData uri="http://schemas.openxmlformats.org/drawingml/2006/table">
            <a:tbl>
              <a:tblPr/>
              <a:tblGrid>
                <a:gridCol w="2560680"/>
                <a:gridCol w="1355760"/>
                <a:gridCol w="1352520"/>
                <a:gridCol w="1353960"/>
              </a:tblGrid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z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F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Vari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s de O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3 años con cupones de MUF 100 al añ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or cara de MUF 1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a de descuento 1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del Bo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4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5 años con cupón de 10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R es r = 12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el 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y Duración Modific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o anterior si r baja a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5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mu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www.svs.cl/sitio/html/merc_valores/f_valore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6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1:03:35Z</dcterms:created>
  <dc:creator>mario</dc:creator>
  <dc:description/>
  <dc:language>en-US</dc:language>
  <cp:lastModifiedBy>Ministerio de Obras Publicas</cp:lastModifiedBy>
  <dcterms:modified xsi:type="dcterms:W3CDTF">2005-08-08T23:44:18Z</dcterms:modified>
  <cp:revision>14</cp:revision>
  <dc:subject/>
  <dc:title>AUXILIAR 1</dc:title>
</cp:coreProperties>
</file>